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77500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87320" y="3397320"/>
            <a:ext cx="77500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8480" y="136656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87320" y="339732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8480" y="339732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24951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07760" y="1366560"/>
            <a:ext cx="24951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7840" y="1366560"/>
            <a:ext cx="24951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87320" y="3397320"/>
            <a:ext cx="24951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07760" y="3397320"/>
            <a:ext cx="24951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7840" y="3397320"/>
            <a:ext cx="24951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87320" y="1366560"/>
            <a:ext cx="7750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7750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37818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8480" y="1366560"/>
            <a:ext cx="37818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55360" y="228240"/>
            <a:ext cx="828828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8480" y="1366560"/>
            <a:ext cx="37818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87320" y="339732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87320" y="1366560"/>
            <a:ext cx="7750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37818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8480" y="136656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58480" y="339732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8480" y="136656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87320" y="3397320"/>
            <a:ext cx="77500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77500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87320" y="3397320"/>
            <a:ext cx="77500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8480" y="136656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87320" y="339732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58480" y="339732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24951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07760" y="1366560"/>
            <a:ext cx="24951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7840" y="1366560"/>
            <a:ext cx="24951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87320" y="3397320"/>
            <a:ext cx="24951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07760" y="3397320"/>
            <a:ext cx="24951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7840" y="3397320"/>
            <a:ext cx="24951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7750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37818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8480" y="1366560"/>
            <a:ext cx="37818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55360" y="228240"/>
            <a:ext cx="828828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8480" y="1366560"/>
            <a:ext cx="37818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87320" y="339732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37818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8480" y="136656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8480" y="339732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8480" y="136656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7320" y="3397320"/>
            <a:ext cx="77500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87320" y="1366560"/>
            <a:ext cx="7750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-171360">
              <a:lnSpc>
                <a:spcPct val="90000"/>
              </a:lnSpc>
              <a:spcBef>
                <a:spcPts val="601"/>
              </a:spcBef>
              <a:buClr>
                <a:srgbClr val="a1a9a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621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488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500040" y="6315120"/>
            <a:ext cx="1403280" cy="2365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500040" y="6315120"/>
            <a:ext cx="1403280" cy="23652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3933720" y="0"/>
            <a:ext cx="5210280" cy="704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11916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indent="4680" algn="ctr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79600" y="1006200"/>
            <a:ext cx="74800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side Scoop: Autodesk® Building Systems Tips and Tri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2880" y="1976400"/>
            <a:ext cx="70185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avid D. Dri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ool kits of ABS – ACAD tools, ADT tools, ABS tool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king with the ABS objec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ting and Implementing ABS Ti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talogs, Parts Tips and Tr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479520" y="1319040"/>
            <a:ext cx="10666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680" y="1460520"/>
            <a:ext cx="13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D41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las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7750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able knowledg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1944720" y="1743120"/>
            <a:ext cx="5049720" cy="652320"/>
          </a:xfrm>
          <a:custGeom>
            <a:avLst/>
            <a:gdLst/>
            <a:ahLst/>
            <a:rect l="l" t="t" r="r" b="b"/>
            <a:pathLst>
              <a:path w="3181" h="411">
                <a:moveTo>
                  <a:pt x="0" y="356"/>
                </a:moveTo>
                <a:cubicBezTo>
                  <a:pt x="717" y="196"/>
                  <a:pt x="1458" y="72"/>
                  <a:pt x="1903" y="36"/>
                </a:cubicBezTo>
                <a:cubicBezTo>
                  <a:pt x="2348" y="0"/>
                  <a:pt x="2456" y="78"/>
                  <a:pt x="2669" y="140"/>
                </a:cubicBezTo>
                <a:cubicBezTo>
                  <a:pt x="2882" y="202"/>
                  <a:pt x="3074" y="355"/>
                  <a:pt x="3181" y="41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09680" y="4083120"/>
            <a:ext cx="6615000" cy="708120"/>
          </a:xfrm>
          <a:custGeom>
            <a:avLst/>
            <a:gdLst/>
            <a:ahLst/>
            <a:rect l="l" t="t" r="r" b="b"/>
            <a:pathLst>
              <a:path w="4167" h="446">
                <a:moveTo>
                  <a:pt x="0" y="446"/>
                </a:moveTo>
                <a:cubicBezTo>
                  <a:pt x="87" y="397"/>
                  <a:pt x="340" y="220"/>
                  <a:pt x="516" y="153"/>
                </a:cubicBezTo>
                <a:cubicBezTo>
                  <a:pt x="692" y="86"/>
                  <a:pt x="827" y="0"/>
                  <a:pt x="1058" y="43"/>
                </a:cubicBezTo>
                <a:cubicBezTo>
                  <a:pt x="1289" y="86"/>
                  <a:pt x="1546" y="408"/>
                  <a:pt x="1900" y="409"/>
                </a:cubicBezTo>
                <a:cubicBezTo>
                  <a:pt x="2254" y="410"/>
                  <a:pt x="2887" y="88"/>
                  <a:pt x="3181" y="50"/>
                </a:cubicBezTo>
                <a:cubicBezTo>
                  <a:pt x="3475" y="12"/>
                  <a:pt x="3528" y="138"/>
                  <a:pt x="3663" y="179"/>
                </a:cubicBezTo>
                <a:cubicBezTo>
                  <a:pt x="3798" y="220"/>
                  <a:pt x="3905" y="267"/>
                  <a:pt x="3989" y="299"/>
                </a:cubicBezTo>
                <a:cubicBezTo>
                  <a:pt x="4073" y="331"/>
                  <a:pt x="4130" y="357"/>
                  <a:pt x="4167" y="372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8200" y="3027240"/>
            <a:ext cx="775008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topic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 Kits of 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7750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AD Palettes and tools – some ideas for ABS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T Masking blocks as Schedule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as for heat loss cal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 pow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 Parts and Catalo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7750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d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software like a toolbox – you might be able to use the crescent wrench if you don’t have the right size open end wren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and Catal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7750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ng Parametric Template Par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ng parts from Provided drawings from manufactur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 Quiz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7750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two locations the Property Data Format can be applied – there are sever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 In the Property Data Formatter Dialog b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 To the Property its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 In the Evaluations Options tab to the values written to the excel she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) As an Override to the Column in the Schedule Table Sty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 Quiz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7750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/Fa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dd tools to the palette from the toolb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metric Parts are beyond comprehen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e tags are for AD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Line Pipes Clean up when you cross one on top of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a Objects are not worth the time it takes to set them up – easier to do with a poly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 up, Evaluations, 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7750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 you for attending my class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sour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davidddriver.com (note the 3d’s in the midd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@davidddri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sgroups accessible from Autodesk’s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tip: Think Outside the box. The Autodesk Building products have a lot of tools, get creativ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5T04:45:50Z</dcterms:created>
  <dc:creator>DdDD</dc:creator>
  <dc:description/>
  <dc:language>en-US</dc:language>
  <cp:lastModifiedBy>DdDD</cp:lastModifiedBy>
  <dcterms:modified xsi:type="dcterms:W3CDTF">2003-12-06T06:01:17Z</dcterms:modified>
  <cp:revision>7</cp:revision>
  <dc:subject/>
  <dc:title>Slide 1</dc:title>
</cp:coreProperties>
</file>