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776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84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8732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776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84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55360" y="228240"/>
            <a:ext cx="82882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776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7840" y="136656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8732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776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7840" y="3397320"/>
            <a:ext cx="2495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5360" y="228240"/>
            <a:ext cx="82882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8480" y="339732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480" y="1366560"/>
            <a:ext cx="3781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320" y="3397320"/>
            <a:ext cx="77500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a1a9a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621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48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00040" y="6315120"/>
            <a:ext cx="1403280" cy="236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00040" y="6315120"/>
            <a:ext cx="1403280" cy="2365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933720" y="0"/>
            <a:ext cx="5210280" cy="70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11916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468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davidddriver.com/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AU@davidddriver.com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CALCULATION MOD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s and Area Groups can report their base area and/or their base peri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culation Modifier is a formula that is applied in the properties page to either area or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ion Modifiers can apply to either base area or perimeter (or bo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have multiple modifiers on one area, they all apply when you view the resulting area figures. I find it easier to do this with the schedule kit of par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NAM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definitions are just a list of names so you can consistently apply the same name to the same types of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definitions are applied in the properties page of the Area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Area attached to a group with a Name Definitions will allow you to use a drop down to select a name from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AREA GROUP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ea Group Template is just a set of Area Groups that you can place in the drawing at the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PROPERTY DATA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7320" y="1366920"/>
            <a:ext cx="77500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erty data format is how raw values of areas or perimeters are written out in evaluations, schedules and tags. A property data format is used in at least THREE pl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a1a9a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erty Set Definition – has assigned a DATA FORM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a1a9a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chedule Table Style – Columns can OVERRIDE the property format of th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a1a9a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VALUATION has a location you can assign the DATA FORM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PROPERTY SET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erty set definition is the base holding area for PROPTER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blah blah bla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CTIO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Qui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wo locations the Property Data Format can be applied – there are sev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In the Property Data Formatter Dialo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To the Property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In the Evaluations Options tab to the values written to the excel she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 As an Override to the Column in the Schedule Table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Qui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/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ssign a Name Definition to an Area in the properties page of the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ea Group Template refers to a separate drawing template you can use to start a new draw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Mtext coding in a formula based proper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Qui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/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MA standards for BOMA Calculations are written in a foreign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only use Areas/Groups/Evaluations for figuring BOMA Cal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instructor is going too fa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instructor is going too s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 up, Evaluations, 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 you for attending my class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www.davidddriver.c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ote the 3d’s in the midd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AU@davidddri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sgroups accessible from Autodesk’s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tip: Think Outside the box. The Autodesk Building products have a lot of tools, get crea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9600" y="1006200"/>
            <a:ext cx="7480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ing Your Way Around Autodesk® Architectural Desktop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880" y="1976400"/>
            <a:ext cx="7018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vid D. Dri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t of Pa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ing Areas with Schedules to get BOMA Fig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Tips and Tricks!!! Just for kic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79520" y="1319040"/>
            <a:ext cx="1066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680" y="14605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D42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 of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ion Modifier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y Data Formats and Set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Eval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Schedules and T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 of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7320" y="1366920"/>
            <a:ext cx="7750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reas to the dra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ame Definitions for consistent naming of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rea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Group Templates for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alculation Modifiers as needed to Areas and/or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the Areas and Area Groups together in logical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rea Evaluations and/or Sche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s are meant to be br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Down Vs Botto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Down is what happens on Friday morning after Bottoms Up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this been a real emergency, you would have been given two Tyleno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is the base object that the runs the whole circus. The trick is adding naming and displaying the Area in ways that make sen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s can have additive or subtractive areas within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Styles can have different names than the area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use ACAD trim tools, use the right click me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488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Tip: When in Doubt, Right Cli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5360" y="228240"/>
            <a:ext cx="8288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: ARE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7320" y="1366560"/>
            <a:ext cx="7750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Groups are the organizing force behind the kit of par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ea Groups can be “nested” like folders in the windows explo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4:45:50Z</dcterms:created>
  <dc:creator>DdDD</dc:creator>
  <dc:description/>
  <dc:language>en-US</dc:language>
  <cp:lastModifiedBy>DdDD</cp:lastModifiedBy>
  <dcterms:modified xsi:type="dcterms:W3CDTF">2003-12-05T23:48:09Z</dcterms:modified>
  <cp:revision>4</cp:revision>
  <dc:subject/>
  <dc:title>Slide 1</dc:title>
</cp:coreProperties>
</file>